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05120" y="198360"/>
            <a:ext cx="678168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7357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905120" y="198360"/>
            <a:ext cx="678168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735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735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905120" y="198360"/>
            <a:ext cx="678168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3716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3716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735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735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735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05120" y="198360"/>
            <a:ext cx="678168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05120" y="198360"/>
            <a:ext cx="678168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05120" y="198360"/>
            <a:ext cx="678168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05120" y="198360"/>
            <a:ext cx="678168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905120" y="198360"/>
            <a:ext cx="678168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05120" y="198360"/>
            <a:ext cx="678168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735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05120" y="198360"/>
            <a:ext cx="678168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905120" y="198360"/>
            <a:ext cx="678168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735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905120" y="198360"/>
            <a:ext cx="678168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7357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905120" y="198360"/>
            <a:ext cx="678168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7357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05120" y="198360"/>
            <a:ext cx="678168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735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735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905120" y="198360"/>
            <a:ext cx="678168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3716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3716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735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735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735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05120" y="198360"/>
            <a:ext cx="678168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905120" y="198360"/>
            <a:ext cx="678168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05120" y="198360"/>
            <a:ext cx="678168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905120" y="198360"/>
            <a:ext cx="678168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905120" y="198360"/>
            <a:ext cx="678168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735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05120" y="198360"/>
            <a:ext cx="678168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735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05120" y="198360"/>
            <a:ext cx="678168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7357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05120" y="198360"/>
            <a:ext cx="678168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76320" y="1143000"/>
            <a:ext cx="8991360" cy="152280"/>
            <a:chOff x="76320" y="1143000"/>
            <a:chExt cx="8991360" cy="152280"/>
          </a:xfrm>
        </p:grpSpPr>
        <p:sp>
          <p:nvSpPr>
            <p:cNvPr id="3" name=""/>
            <p:cNvSpPr/>
            <p:nvPr/>
          </p:nvSpPr>
          <p:spPr>
            <a:xfrm>
              <a:off x="76320" y="1219320"/>
              <a:ext cx="883908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915400" y="1143000"/>
              <a:ext cx="152280" cy="1522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"/>
          <p:cNvSpPr/>
          <p:nvPr/>
        </p:nvSpPr>
        <p:spPr>
          <a:xfrm>
            <a:off x="8458200" y="662940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671E0-9927-4017-B2C9-7A12955519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04920" y="6629400"/>
            <a:ext cx="3124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Ckit™ 2 Over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52280" y="79200"/>
            <a:ext cx="1524240" cy="1063800"/>
          </a:xfrm>
          <a:prstGeom prst="rect">
            <a:avLst/>
          </a:prstGeom>
          <a:ln w="0">
            <a:noFill/>
          </a:ln>
        </p:spPr>
      </p:pic>
      <p:grpSp>
        <p:nvGrpSpPr>
          <p:cNvPr id="8" name=""/>
          <p:cNvGrpSpPr/>
          <p:nvPr/>
        </p:nvGrpSpPr>
        <p:grpSpPr>
          <a:xfrm>
            <a:off x="76320" y="6553440"/>
            <a:ext cx="8991360" cy="152280"/>
            <a:chOff x="76320" y="6553440"/>
            <a:chExt cx="8991360" cy="152280"/>
          </a:xfrm>
        </p:grpSpPr>
        <p:sp>
          <p:nvSpPr>
            <p:cNvPr id="9" name=""/>
            <p:cNvSpPr/>
            <p:nvPr/>
          </p:nvSpPr>
          <p:spPr>
            <a:xfrm flipH="1">
              <a:off x="228600" y="6629400"/>
              <a:ext cx="883908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rot="10800000">
              <a:off x="76320" y="6553440"/>
              <a:ext cx="152280" cy="1522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ffffff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2819520" y="838080"/>
            <a:ext cx="3504960" cy="1828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7399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6629400"/>
            <a:ext cx="228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g 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SzPct val="70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SzPct val="70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70000"/>
              <a:buFont typeface="Monotype Sort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7399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PICkit™ 2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4495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ment Tool Overview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05120" y="198360"/>
            <a:ext cx="678168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ultiple PICkit 2 units on 1 PC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PLAB IDE v8.15 and later and the PICkit 2 Programmer applications support multiple PICkit 2 units on 1 PC.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multaneously debug 2 microcontrollers with 2 PICkit 2 units using 2 instances of the MPLAB IDE on 1 PC.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 the same time, use a 3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PICkit 2 unit with the Logic Tool to capture I2C peripheral bus waveforms, and a 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PICkit 2 unit with the UART Tool to log application data to a text file.  All on the same PC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905120" y="198360"/>
            <a:ext cx="678168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ICkit CDROM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80520" y="2286000"/>
            <a:ext cx="8610840" cy="419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utorials on getting started in the MPLAB IDE and the PICkit 2 Programmer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12 Lesson series on Midrange PIC assembly programming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tutorial on debugging with the PICkit 2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mo C compilers, example C projects, and tutorials on C language development and debugging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mo Basic compiler with example project and tutorial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cumentation on the MPLAB IDE and PICkit 2 software and hardwar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heets and application notes on a wide range of PIC microcontrollers and topic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de examples in assembly and the C languag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ormation on third-party tools and learning resource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28600" y="1219320"/>
            <a:ext cx="8686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All PICkit 2 units ship with the PICkit CDROM, which includes a wealth of inform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05120" y="198360"/>
            <a:ext cx="678168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ICkit 2 Demo Board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28600" y="1676520"/>
            <a:ext cx="8610480" cy="50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A wide variety of demo boards compatible wi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PICkit 2 are available from Microchip.  Ple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ontact your local Microchip sales office 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AE for more inform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PICkit 2 on the Web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www.microchip.com/pickit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1295280"/>
            <a:ext cx="9144000" cy="525780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905120" y="198360"/>
            <a:ext cx="678168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ICkit™ 2 Debug Expres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-Circuit-Debugging with MPLAB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bug in the application circui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ed Device Families: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IC10F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IC12F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IC16F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IC18F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IC24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sPIC30, dsPIC3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ll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PICkit 2 units are Debug Express Capab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1295280"/>
            <a:ext cx="9144000" cy="516888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05120" y="198000"/>
            <a:ext cx="67816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ICkit™ 2 Debug Expres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- 4 Breakpoints, depending on MCU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, Halt, Step In, Step Ov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atch Special Function Register &amp; File Register values when halted or stepp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dify register valu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vanced Breakpoints for PIC18F, PIC24,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&amp; dsPIC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devic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990720" y="5029200"/>
            <a:ext cx="77724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eak on File Register read or wr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breakpoint pass cou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905120" y="198360"/>
            <a:ext cx="678168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ICkit™ 2 Programmer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13716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Program with PICkit 2 using these software program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676520" y="3048120"/>
            <a:ext cx="69339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ICkit 2 Programmer Applicatio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33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ditional device support, including PIC32 and Microchip serial EEPROM produ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es more PICkit 2 feat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ICkit 2 Programmer-To-Go set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57200" y="1981080"/>
            <a:ext cx="1152360" cy="10191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457200" y="3124080"/>
            <a:ext cx="1050840" cy="10512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1676520" y="1905120"/>
            <a:ext cx="7238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PLAB</a:t>
            </a:r>
            <a:r>
              <a:rPr b="0" lang="en-US" sz="2500" spc="-1" strike="noStrike" baseline="30000">
                <a:solidFill>
                  <a:srgbClr val="000000"/>
                </a:solidFill>
                <a:latin typeface="Arial"/>
              </a:rPr>
              <a:t>®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ID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33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gram all devices supported for debug directly from the 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685800" y="4952880"/>
            <a:ext cx="676440" cy="66204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1676520" y="4876920"/>
            <a:ext cx="70866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K2CMD Command Line Utilit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33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with batch files, custom GUI software in Visual Basic, C++, C#, Labview, and oth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33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l from 3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party development environ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33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vailable for Linux and Mac OS X plat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7848720" y="152280"/>
            <a:ext cx="1041120" cy="104148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63248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ICkit™ 2 Programmer Applic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1066680" y="2286000"/>
            <a:ext cx="6934320" cy="41814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228600" y="1219320"/>
            <a:ext cx="8534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Windows PC application provides a simplified, feature rich interface for PICkit 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905120" y="198360"/>
            <a:ext cx="678168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ICkit™ 2 Programmer Applic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861084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24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rograms all current 8-, 16-, and 32-bit Flash PIC® microcontrollers.</a:t>
            </a: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Easy to use with MPLAB® IDE and other development environments.</a:t>
            </a: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rogrammer-To-Go: Set up a PICkit 2 to program a device without the need for a PC.</a:t>
            </a: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cludes the UART Tool and Logic Tool microcontroller development utilities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905120" y="198360"/>
            <a:ext cx="678168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ICkit 2™ Programmer-To-Go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971440" y="1371240"/>
            <a:ext cx="61722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24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wnload program code to a PICkit 2 unit from the Programmer application.</a:t>
            </a: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With a portable USB power source, PICkit 2 will program the downloaded code into a PIC Microcontroller, without using a PC.</a:t>
            </a: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ull documentation and setup Wizard included in the PICkit 2 Programmer application.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1295280"/>
            <a:ext cx="2806560" cy="51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05120" y="198360"/>
            <a:ext cx="678168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ICkit 2 UART Too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8600" y="1295280"/>
            <a:ext cx="8686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The UART Tool provides a terminal-like UART interface for microcontroller develop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600200" y="2362320"/>
            <a:ext cx="5511960" cy="41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905120" y="198360"/>
            <a:ext cx="678168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ICkit 2 Logic Too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28600" y="1295280"/>
            <a:ext cx="8686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The Logic Tool provides basic pin stimulus and logic analyzer functions via the PICkit 2 un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304920" y="2514600"/>
            <a:ext cx="4543200" cy="30733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4267080" y="3276720"/>
            <a:ext cx="4570560" cy="30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3T14:44:37Z</dcterms:created>
  <dc:creator>Tiffany Zinn</dc:creator>
  <dc:description/>
  <dc:language>en-US</dc:language>
  <cp:lastModifiedBy>C11771</cp:lastModifiedBy>
  <dcterms:modified xsi:type="dcterms:W3CDTF">2008-10-03T17:15:14Z</dcterms:modified>
  <cp:revision>44</cp:revision>
  <dc:subject/>
  <dc:title>Slide 1</dc:title>
</cp:coreProperties>
</file>